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4960" y="1240920"/>
            <a:ext cx="446724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64A80-C82E-401A-9E88-CCBD090655F9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498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objekt pre číslo snímky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338BA-91EA-4B79-B515-229911EEB72E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498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Calibri"/>
              </a:rPr>
              <a:t>Limity uvedené v Tabuľke č.2 (Finančná príručka) zahŕňajú celkovú cenu práce za odpracovaný osobodeň/osobohodin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Calibri"/>
              </a:rPr>
              <a:t>Celková výška oprávnených osobných nákladov sa vypočíta na základe reálne odpracovaných dní/hodín a sadzieb schválených v rozpoč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Calibri"/>
              </a:rPr>
              <a:t>Výdavky spojené s ostatným personálom nevyhnutným pre priame aktivity projektu (napr. strážna služba, šofér) vykazujú sumárne v tabuľke, ktorá tvorí prílohu č. 10. Finančnej príručk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Zástupný objekt pre číslo snímky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624E4-A59F-40EB-8CB1-7169E1E5C9C2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498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 u="sng">
                <a:solidFill>
                  <a:srgbClr val="000000"/>
                </a:solidFill>
                <a:uFillTx/>
                <a:latin typeface="Calibri"/>
              </a:rPr>
              <a:t>Priebežná správa </a:t>
            </a:r>
            <a:r>
              <a:rPr b="0" lang="sk-SK" sz="1200" spc="-1" strike="noStrike">
                <a:solidFill>
                  <a:srgbClr val="000000"/>
                </a:solidFill>
                <a:latin typeface="Calibri"/>
              </a:rPr>
              <a:t>sa predkladá každý pol rok (ak v zmluve nie je uvedené inak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Calibri"/>
              </a:rPr>
              <a:t>PS je potrebné nahrať aj s prílohami do GM systém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Calibri"/>
              </a:rPr>
              <a:t>Prílohou PS sú zdroje overenia (fotodokumentácia, prezentácie, zoznamy účastníkov seminárov, workshopov, prezenčné listiny, publikácie a pod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Calibri"/>
              </a:rPr>
              <a:t>PS sa odovzdáva v tlačenej forme a musí byť podpísaná projektovým manažérom a štatutárom prijímateľ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 u="sng">
                <a:solidFill>
                  <a:srgbClr val="000000"/>
                </a:solidFill>
                <a:uFillTx/>
                <a:latin typeface="Calibri"/>
              </a:rPr>
              <a:t>Záverečná správa </a:t>
            </a:r>
            <a:r>
              <a:rPr b="0" lang="sk-SK" sz="1200" spc="-1" strike="noStrike">
                <a:solidFill>
                  <a:srgbClr val="000000"/>
                </a:solidFill>
                <a:latin typeface="Calibri"/>
              </a:rPr>
              <a:t>sa predkladá jeden krát a to na konci projekt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Calibri"/>
              </a:rPr>
              <a:t>ZS je potrebné nahrať aj s prílohami do GM systém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Calibri"/>
              </a:rPr>
              <a:t>Prílohou ZS je odovzdávajúci protokol (iba v prípade, ak bol počas projektu zakúpený majetok ktorý na konci projektu prechádza do vlastníctva lokálneho partnera projekt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Calibri"/>
              </a:rPr>
              <a:t>ZS nenahradzuje priebežnú správ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Calibri"/>
              </a:rPr>
              <a:t>ZS sa odovzdáva aj v tlačenej forme a musí byť podpísaná projektovým manažérom a štatutárom prijímateľ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Zástupný objekt pre číslo snímky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7F59B-26A9-45DD-80A5-9FCE0A896ACE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498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Zástupný objekt pre číslo snímky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1109A-3529-4797-AFD5-221269CF67CC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498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Calibri"/>
              </a:rPr>
              <a:t>Prílohy vyúčtovania - spolu s kópiami dokladov je potrebné odovzdať vyplnenú prílohu č.5 Vyúčtovanie nákladov a elektronický rozpočet s doplnenými nákladmi za príslušné vyúčtovacie obdobi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Calibri"/>
              </a:rPr>
              <a:t>Každá kópia dokladu musí obsahovať informáciu o tom, že kópia súhlasí s originálom a podpis poverenej osoby, ktorá overila zhodu (stačí ak je to člen projektového tím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Calibri"/>
              </a:rPr>
              <a:t>Doklady ktoré sú predkladané v inom ako slovenskom jazyku je potrebné preložiť (nie je nutný preklad celého textu, stačia základné pojmy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Calibri"/>
              </a:rPr>
              <a:t>Doklady ktoré sú predkladané v inej mene ako EURO je potrebné vždy prerátať na EURO a uviesť zdroj kurzu ktorý bol použit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Calibri"/>
              </a:rPr>
              <a:t>Výška spolufinancovania v jednotlivých položkách sa uvádza v rozpočte (Hárok N1, N2, N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Calibri"/>
              </a:rPr>
              <a:t>Režijné náklady sa dokladujú iba prehľadnou tabuľkou (nie je potrebné dokladovať kópie účtovných dokladov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Zástupný objekt pre číslo snímky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9E2BC-4A3B-41A2-B956-CBF42A6A5FAE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498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Calibri"/>
              </a:rPr>
              <a:t>Zákon č. 431/2002 Z.z o účtovníctve v znení neskorších predpiso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Calibri"/>
              </a:rPr>
              <a:t>Zákon č. 513/1991 Zb. Obchodný zákonník v znení neskorších predpiso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Calibri"/>
              </a:rPr>
              <a:t>Zákon č. 40/1964 Zb. Občiansky zákonník v znení neskorších predpiso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Calibri"/>
              </a:rPr>
              <a:t>Zákon č. 311/2001 Z.z. Zákonník práce v znení neskorších predpiso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Calibri"/>
              </a:rPr>
              <a:t>Zákon č. 283/2002 Z.z o cestovných náhradách v znení neskorších predpiso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Calibri"/>
              </a:rPr>
              <a:t>Kompletný zoznam zákonov je uvedený vo Finančnej príručke (str. 4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Zástupný objekt pre číslo snímky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51D38-A5BD-4596-B394-5D84015A865C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498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Calibri"/>
              </a:rPr>
              <a:t>Nevyhnutné na realizáciu projektu, spojené s aktivitami uvedenými v projektovom dokumen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Calibri"/>
              </a:rPr>
              <a:t>Primerané a odôvodnené, stanovené v zmluve a v súlade so zásadami správneho finančného riadenia, najmä s dôrazom na efektívnosť, hospodárnosť, účelnosť a účinnosť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Calibri"/>
              </a:rPr>
              <a:t>Uhradené a vznikli počas doby trvania projektu, ktorá je definovaná v zmluve. Výdavky, ktoré vznikli a/ alebo boli uhradené pred resp. po dobe trvania projektu (definovanej v zmluve), nie sú oprávnené na vyúčtovanie (výnimkou je úhrada miezd za posledný mesiac implementácie projektu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Calibri"/>
              </a:rPr>
              <a:t>Preukázateľne vynaložené prijímateľom, zaznamenané v účtovnej evidencii prijímateľa aj v účtoch partnerov prijímateľa, identifikovateľné, overiteľné a podložené originálmi účtovných dokladov. Nemôžu byť stanovené ako paušálna suma, pokiaľ nie je uvedené ina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Zástupný objekt pre číslo snímky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DEFCB-84A8-4B6A-B27F-CC9AE1FCAA1E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498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Calibri"/>
              </a:rPr>
              <a:t>Inicializačné náklady ako súčasť nepriamych nákladov v rámci režijných nákladov môžu predstavovať maximálne 2% z celkových oprávnených nákladov projektu (náklady ktoré nevyhnutne vznikli od doby po prijatí rozhodnutia o udelení dotácie až po podpis zmluvy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Calibri"/>
              </a:rPr>
              <a:t>Maximálny percentuálny limit pre nepriame náklady projektu v rámci režijných nákladov je 7,00% z celkových oprávnených nákladov projekt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Calibri"/>
              </a:rPr>
              <a:t>Maximálny percentuálny limit pre riadenie projektu v rámci priamych nákladov projektu je 20,00% z celkových oprávnených nákladov projekt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Calibri"/>
              </a:rPr>
              <a:t>Limity na kúpu technického vybavenia na bežné použitie pre potrebu administrácie projektu a technického zabezpečenia školiacich a iných štandardných aktivít projektu (PC s príslušenstvom 500€, notebook s príslušenstvom 600€, dataprojektor 300€, tlačiareň/fotoaparát/videokamera 200€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Zástupný objekt pre číslo snímky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BB21C-C0E2-4B04-AB69-12406AF9210A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498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Calibri"/>
              </a:rPr>
              <a:t>Všetky presuny uskutočnené počas jedného kalendárneho roka na úrovni položiek, ale v rámci jednej skupiny nákladov v rozpočte nepresahujúce 10% je prijímateľ povinný oznámiť SAMRS email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Calibri"/>
              </a:rPr>
              <a:t>Pri presunoch presahujúcich 10%, resp. presun medzi skupinami nákladov je prijímateľ povinný požiadať SAMRS o schválenie písomne, a to ešte pred vykonaním zmeny. SAMRS bude následne informovať prijímateľa, či presuny akceptuje alebo nie, a to najneskôr do 10 pracovných dní odo dňa prijatia žiadosti SAMRS. Požadovanú zmenu je možné aplikovať až po schválení SAM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Calibri"/>
              </a:rPr>
              <a:t>Žiadosť o zmenu resp. presun musí obsahovať dôkladné zdôvodnenie zmeny, výšku presúvanej sumy v EUR a percentách, názov dotknutých skupín nákladov a položiek rozpočtu. Zároveň je potrebné uviesť zmenu vyjadrenú v percentá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Calibri"/>
              </a:rPr>
              <a:t>Po odsúhlasení zmeny je prijímateľ povinný vykonať zmenu rozpočtu v predpísanom formáte a aj v elektronickej verzii s uvedením čísla verzie rozpočtu a zaslať ju SAMRS do 10 pracovných dní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Zástupný objekt pre číslo snímky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A7383-DC45-425B-BFC6-770C0846F57E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498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Calibri"/>
              </a:rPr>
              <a:t>Zmeny v personáli projektu (riadiacom, odbornom, expertnom a terénnom) podliehajú schváleniu zo strany SAMRS. Prijímateľ je pred vykonaním zmeny povinný predložiť písomnú žiadosť o zaradenie alebo zmenu osôb v personálnej matici.  Žiadosť musí obsahovať zdôvodnenie zaradenia/ zmeny, životopis osoby, ktorá sa má stať súčasťou projektu, jej písomný súhlas so spracovaním a uchovávaním osobných údajov a navrhovaný dátum účinnosti zmen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Calibri"/>
              </a:rPr>
              <a:t>SAMRS posudzuje minimálne kvalifikačné predpoklady navrhovanej osoby a s tým spojené odmeňovani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Calibri"/>
              </a:rPr>
              <a:t>SAMRS má povinnosť informovať prijímateľa do 10 pracovných dní odo dňa prijatia žiadost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Calibri"/>
              </a:rPr>
              <a:t>Zmeny v ostatnom personáli stačí oznámiť emailom príslušnému projektovému manažérov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Zástupný objekt pre číslo snímky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336DC-2BD2-46B1-8A02-3DC4916724D9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3E58-F3B1-4C48-8013-F39AF6C2B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833C-D881-4BCE-A271-B226D4C06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6ECD-8DE7-440A-8332-6F5533A78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4093-5198-4A89-9D58-09151A512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2A45-E794-495A-8C31-3CBAE2D5B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07D8-3E08-46AA-A330-1B2CD2D56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ED2B-5F43-4AFE-9B0A-6B696D766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9C66-68E5-4FFB-B7A8-C1514F032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C4CC-E89C-479E-9AF1-BA69DB204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6021-CA9D-45C6-A584-6FF5CA6B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425A-33E4-4992-BC9B-11C4F902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EF31-3E20-443F-B31D-B00139EC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AB9EE-9F34-4088-B45F-0302BDFF6B79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mailto:petra.polaskova@slovakaid.sk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2"/>
          <p:cNvSpPr/>
          <p:nvPr/>
        </p:nvSpPr>
        <p:spPr>
          <a:xfrm>
            <a:off x="0" y="1844640"/>
            <a:ext cx="91440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Calibri"/>
              </a:rPr>
              <a:t>Finančný manažment projekt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Calibri"/>
              </a:rPr>
              <a:t>Finančná príruč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7094520" y="23760"/>
            <a:ext cx="1994040" cy="949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158760" y="111240"/>
            <a:ext cx="287172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4904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Calibri"/>
              </a:rPr>
              <a:t>Vyúčtovanie personálnych náklado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100160"/>
            <a:ext cx="822960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000000"/>
                </a:solidFill>
                <a:uFillTx/>
                <a:latin typeface="Calibri"/>
              </a:rPr>
              <a:t>Za zamestnancov ktorí pracujú na základe pracovnej zmluvy alebo dohody uzatvorenej podľa Zákonníka práce prijímateľ predkladá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Príslušnú pracovnú zmluvu a dodatok(pracovná pozícia na projekte, rozsah práce, stanovená odmen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Pracovný výkaz (v prípade že zamestnanec pracuje na viacerých pozíciách súčasne, je potrebné použiť krížový pracovný výkaz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Výplatnú pásku (s poznámkou uhrádzanej čiastk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Doklad o úhrade mzdy a odvod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Obrázok 1" descr=""/>
          <p:cNvPicPr/>
          <p:nvPr/>
        </p:nvPicPr>
        <p:blipFill>
          <a:blip r:embed="rId1"/>
          <a:stretch/>
        </p:blipFill>
        <p:spPr>
          <a:xfrm>
            <a:off x="179280" y="152280"/>
            <a:ext cx="2305080" cy="676440"/>
          </a:xfrm>
          <a:prstGeom prst="rect">
            <a:avLst/>
          </a:prstGeom>
          <a:ln w="0">
            <a:noFill/>
          </a:ln>
        </p:spPr>
      </p:pic>
      <p:pic>
        <p:nvPicPr>
          <p:cNvPr id="86" name="Obrázok 2" descr=""/>
          <p:cNvPicPr/>
          <p:nvPr/>
        </p:nvPicPr>
        <p:blipFill>
          <a:blip r:embed="rId2"/>
          <a:stretch/>
        </p:blipFill>
        <p:spPr>
          <a:xfrm>
            <a:off x="6975360" y="149400"/>
            <a:ext cx="199260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552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Calibri"/>
              </a:rPr>
              <a:t>Vyúčtovanie personálnych nákladov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 u="sng">
                <a:solidFill>
                  <a:srgbClr val="000000"/>
                </a:solidFill>
                <a:uFillTx/>
                <a:latin typeface="Calibri"/>
              </a:rPr>
              <a:t>Za zamestnancov ktorí pracujú na základe živnostenského oprávnenia prijímateľ predkladá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Predmetnú zmluvu kde je uvedená pracovná pozícia na projekte, rozsah práce a stanovená odme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Pracovný výka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Faktúry za vykonané práce a doklady o ich úhr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Obrázok 3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232000" cy="615960"/>
          </a:xfrm>
          <a:prstGeom prst="rect">
            <a:avLst/>
          </a:prstGeom>
          <a:ln w="0">
            <a:noFill/>
          </a:ln>
        </p:spPr>
      </p:pic>
      <p:pic>
        <p:nvPicPr>
          <p:cNvPr id="90" name="Obrázok 4" descr=""/>
          <p:cNvPicPr/>
          <p:nvPr/>
        </p:nvPicPr>
        <p:blipFill>
          <a:blip r:embed="rId2"/>
          <a:stretch/>
        </p:blipFill>
        <p:spPr>
          <a:xfrm>
            <a:off x="7147080" y="1440"/>
            <a:ext cx="1993680" cy="9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250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Priebežná a záverečná sprá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263700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Calibri"/>
              </a:rPr>
              <a:t>Priebežná správa 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sa predkladá každý pol rok (ak v zmluve nie je uvedené inak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Calibri"/>
              </a:rPr>
              <a:t>Záverečná správa 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sa predkladá jeden krát a to na konci projek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Obrázok 3" descr=""/>
          <p:cNvPicPr/>
          <p:nvPr/>
        </p:nvPicPr>
        <p:blipFill>
          <a:blip r:embed="rId1"/>
          <a:stretch/>
        </p:blipFill>
        <p:spPr>
          <a:xfrm>
            <a:off x="324000" y="297000"/>
            <a:ext cx="2479680" cy="684000"/>
          </a:xfrm>
          <a:prstGeom prst="rect">
            <a:avLst/>
          </a:prstGeom>
          <a:ln w="0">
            <a:noFill/>
          </a:ln>
        </p:spPr>
      </p:pic>
      <p:pic>
        <p:nvPicPr>
          <p:cNvPr id="94" name="Obrázok 4" descr=""/>
          <p:cNvPicPr/>
          <p:nvPr/>
        </p:nvPicPr>
        <p:blipFill>
          <a:blip r:embed="rId2"/>
          <a:stretch/>
        </p:blipFill>
        <p:spPr>
          <a:xfrm>
            <a:off x="7149960" y="73080"/>
            <a:ext cx="199404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95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sk-SK" sz="2000" spc="-1" strike="noStrike">
                <a:solidFill>
                  <a:srgbClr val="000000"/>
                </a:solidFill>
                <a:latin typeface="Calibri"/>
              </a:rPr>
              <a:t>Najčastejšie chyby vo vyúčtovaní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04112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Vyúčtovania sú doložené nekompletné (bez povinných príloh, doklady nezoradené a neoznačené podľa položiek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Vyúčtovania doručené po termí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Náklady zaradené do nesprávnych položi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Nejasne napísané zmluvy/dodatky s projektovým personálom a nedodržiavanie schválených merných jednoti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Pri nákladoch v inej mene ako EURO často nedoložený kur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Nehospodárne využívanie taxi služb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Pracovné výkazy často vyplnené len jednou všeobecnou aktivito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Prečerpanie schválenej výšky položiek bez predchádzajúceho schválenia SAM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Doklady v inom ako slovenskom jazyku doložené bez preklado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Nepotvrdená zhoda doložených kópií s originál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Pri letenkách nedoložené boarding pass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Chýbajúce doklady o úhrad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Obrázok 3" descr=""/>
          <p:cNvPicPr/>
          <p:nvPr/>
        </p:nvPicPr>
        <p:blipFill>
          <a:blip r:embed="rId1"/>
          <a:stretch/>
        </p:blipFill>
        <p:spPr>
          <a:xfrm>
            <a:off x="250920" y="297000"/>
            <a:ext cx="2871720" cy="792000"/>
          </a:xfrm>
          <a:prstGeom prst="rect">
            <a:avLst/>
          </a:prstGeom>
          <a:ln w="0">
            <a:noFill/>
          </a:ln>
        </p:spPr>
      </p:pic>
      <p:pic>
        <p:nvPicPr>
          <p:cNvPr id="98" name="Obrázok 4" descr=""/>
          <p:cNvPicPr/>
          <p:nvPr/>
        </p:nvPicPr>
        <p:blipFill>
          <a:blip r:embed="rId2"/>
          <a:stretch/>
        </p:blipFill>
        <p:spPr>
          <a:xfrm>
            <a:off x="7068960" y="90360"/>
            <a:ext cx="1994040" cy="9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Obrázok 1" descr="Aid logo.png"/>
          <p:cNvPicPr/>
          <p:nvPr/>
        </p:nvPicPr>
        <p:blipFill>
          <a:blip r:embed="rId1"/>
          <a:stretch/>
        </p:blipFill>
        <p:spPr>
          <a:xfrm>
            <a:off x="6580080" y="0"/>
            <a:ext cx="256392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Obdĺžnik 4"/>
          <p:cNvSpPr/>
          <p:nvPr/>
        </p:nvSpPr>
        <p:spPr>
          <a:xfrm>
            <a:off x="411120" y="3917880"/>
            <a:ext cx="874872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58ed5"/>
                </a:solidFill>
                <a:latin typeface="Calibri"/>
                <a:ea typeface="Arial"/>
              </a:rPr>
              <a:t>Meno: Petra Poľašk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58ed5"/>
                </a:solidFill>
                <a:latin typeface="Calibri"/>
                <a:ea typeface="Arial"/>
              </a:rPr>
              <a:t>Email: </a:t>
            </a:r>
            <a:r>
              <a:rPr b="0" lang="sk-SK" sz="24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petra.polaskova@slovakaid.sk</a:t>
            </a:r>
            <a:r>
              <a:rPr b="1" lang="sk-SK" sz="2400" spc="-1" strike="noStrike">
                <a:solidFill>
                  <a:srgbClr val="558ed5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58ed5"/>
                </a:solidFill>
                <a:latin typeface="Calibri"/>
                <a:ea typeface="Arial"/>
              </a:rPr>
              <a:t>Slovenská agentúra pre medzinárodn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58ed5"/>
                </a:solidFill>
                <a:latin typeface="Calibri"/>
                <a:ea typeface="Arial"/>
              </a:rPr>
              <a:t>rozvojovú spoluprácu (SAM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58ed5"/>
                </a:solidFill>
                <a:latin typeface="Calibri"/>
                <a:ea typeface="Arial"/>
              </a:rPr>
              <a:t>Pražská 7, </a:t>
            </a:r>
            <a:r>
              <a:rPr b="1" lang="en-US" sz="2400" spc="-1" strike="noStrike">
                <a:solidFill>
                  <a:srgbClr val="558ed5"/>
                </a:solidFill>
                <a:latin typeface="Calibri"/>
                <a:ea typeface="Arial"/>
              </a:rPr>
              <a:t>811 0</a:t>
            </a:r>
            <a:r>
              <a:rPr b="1" lang="sk-SK" sz="2400" spc="-1" strike="noStrike">
                <a:solidFill>
                  <a:srgbClr val="558ed5"/>
                </a:solidFill>
                <a:latin typeface="Calibri"/>
                <a:ea typeface="Arial"/>
              </a:rPr>
              <a:t>4</a:t>
            </a:r>
            <a:r>
              <a:rPr b="1" lang="en-US" sz="2400" spc="-1" strike="noStrike">
                <a:solidFill>
                  <a:srgbClr val="558ed5"/>
                </a:solidFill>
                <a:latin typeface="Calibri"/>
                <a:ea typeface="Arial"/>
              </a:rPr>
              <a:t> Bratislava</a:t>
            </a:r>
            <a:r>
              <a:rPr b="1" lang="sk-SK" sz="2400" spc="-1" strike="noStrike">
                <a:solidFill>
                  <a:srgbClr val="558ed5"/>
                </a:solidFill>
                <a:latin typeface="Calibri"/>
                <a:ea typeface="Arial"/>
              </a:rPr>
              <a:t>, 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58ed5"/>
                </a:solidFill>
                <a:latin typeface="Calibri"/>
                <a:ea typeface="Arial"/>
              </a:rPr>
              <a:t>	</a:t>
            </a:r>
            <a:r>
              <a:rPr b="1" lang="sk-SK" sz="2400" spc="-1" strike="noStrike">
                <a:solidFill>
                  <a:srgbClr val="558ed5"/>
                </a:solidFill>
                <a:latin typeface="Calibri"/>
                <a:ea typeface="Arial"/>
              </a:rPr>
              <a:t>	</a:t>
            </a:r>
            <a:r>
              <a:rPr b="1" lang="sk-SK" sz="2400" spc="-1" strike="noStrike">
                <a:solidFill>
                  <a:srgbClr val="558ed5"/>
                </a:solidFill>
                <a:latin typeface="Calibri"/>
                <a:ea typeface="Arial"/>
              </a:rPr>
              <a:t>	</a:t>
            </a:r>
            <a:r>
              <a:rPr b="1" lang="sk-SK" sz="2400" spc="-1" strike="noStrike">
                <a:solidFill>
                  <a:srgbClr val="558ed5"/>
                </a:solidFill>
                <a:latin typeface="Calibri"/>
                <a:ea typeface="Arial"/>
              </a:rPr>
              <a:t>	</a:t>
            </a:r>
            <a:r>
              <a:rPr b="1" lang="sk-SK" sz="2400" spc="-1" strike="noStrike">
                <a:solidFill>
                  <a:srgbClr val="558ed5"/>
                </a:solidFill>
                <a:latin typeface="Calibri"/>
                <a:ea typeface="Arial"/>
              </a:rPr>
              <a:t>	</a:t>
            </a:r>
            <a:r>
              <a:rPr b="1" lang="sk-SK" sz="2400" spc="-1" strike="noStrike">
                <a:solidFill>
                  <a:srgbClr val="558ed5"/>
                </a:solidFill>
                <a:latin typeface="Calibri"/>
                <a:ea typeface="Arial"/>
              </a:rPr>
              <a:t>www.slovakaid.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558ed5"/>
                </a:solidFill>
                <a:latin typeface="Arial"/>
                <a:ea typeface="Arial"/>
              </a:rPr>
              <a:t>	</a:t>
            </a:r>
            <a:r>
              <a:rPr b="1" lang="sk-SK" sz="2000" spc="-1" strike="noStrike">
                <a:solidFill>
                  <a:srgbClr val="558ed5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395280" y="2700360"/>
            <a:ext cx="618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17375e"/>
                </a:solidFill>
                <a:latin typeface="Calibri"/>
                <a:ea typeface="Arial"/>
              </a:rPr>
              <a:t>Ďakujem</a:t>
            </a:r>
            <a:r>
              <a:rPr b="1" lang="sk-SK" sz="3600" spc="-1" strike="noStrike">
                <a:solidFill>
                  <a:srgbClr val="000066"/>
                </a:solidFill>
                <a:latin typeface="Calibri"/>
                <a:ea typeface="Arial"/>
              </a:rPr>
              <a:t> </a:t>
            </a:r>
            <a:r>
              <a:rPr b="1" lang="sk-SK" sz="3600" spc="-1" strike="noStrike">
                <a:solidFill>
                  <a:srgbClr val="17375e"/>
                </a:solidFill>
                <a:latin typeface="Calibri"/>
                <a:ea typeface="Arial"/>
              </a:rPr>
              <a:t>za</a:t>
            </a:r>
            <a:r>
              <a:rPr b="1" lang="sk-SK" sz="3600" spc="-1" strike="noStrike">
                <a:solidFill>
                  <a:srgbClr val="000066"/>
                </a:solidFill>
                <a:latin typeface="Calibri"/>
                <a:ea typeface="Arial"/>
              </a:rPr>
              <a:t> </a:t>
            </a:r>
            <a:r>
              <a:rPr b="1" lang="sk-SK" sz="3600" spc="-1" strike="noStrike">
                <a:solidFill>
                  <a:srgbClr val="17375e"/>
                </a:solidFill>
                <a:latin typeface="Calibri"/>
                <a:ea typeface="Arial"/>
              </a:rPr>
              <a:t>pozornos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" descr=""/>
          <p:cNvPicPr/>
          <p:nvPr/>
        </p:nvPicPr>
        <p:blipFill>
          <a:blip r:embed="rId3"/>
          <a:stretch/>
        </p:blipFill>
        <p:spPr>
          <a:xfrm>
            <a:off x="4427640" y="-27000"/>
            <a:ext cx="2374920" cy="1128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4"/>
          <a:stretch/>
        </p:blipFill>
        <p:spPr>
          <a:xfrm>
            <a:off x="158760" y="111240"/>
            <a:ext cx="287172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Calibri"/>
              </a:rPr>
              <a:t>Ako postupovať pri príprave vyúčtovania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069920"/>
            <a:ext cx="8229600" cy="538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Základný zdroj informácií – </a:t>
            </a: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Finančná príručk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Termíny predkladania vyúčtovania sú uvedené v </a:t>
            </a: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zmlu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Doklady musia byť zoradené a jasne označené </a:t>
            </a: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podľa položiek rozpočt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rílohy vyúčtovania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Označenie dokladov - </a:t>
            </a: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kópia súhlasí s originál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reklady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Kur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Ak si z celkovej sumy nákladu uhrádzate iba </a:t>
            </a: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alikvotnú časť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, je potrebné to na doklade jasne uvies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Spolufinancovani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ykazovanie režijných náklado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Obrázok 3" descr=""/>
          <p:cNvPicPr/>
          <p:nvPr/>
        </p:nvPicPr>
        <p:blipFill>
          <a:blip r:embed="rId1"/>
          <a:stretch/>
        </p:blipFill>
        <p:spPr>
          <a:xfrm>
            <a:off x="108000" y="274680"/>
            <a:ext cx="2087640" cy="596880"/>
          </a:xfrm>
          <a:prstGeom prst="rect">
            <a:avLst/>
          </a:prstGeom>
          <a:ln w="0">
            <a:noFill/>
          </a:ln>
        </p:spPr>
      </p:pic>
      <p:pic>
        <p:nvPicPr>
          <p:cNvPr id="54" name="Obrázok 4" descr=""/>
          <p:cNvPicPr/>
          <p:nvPr/>
        </p:nvPicPr>
        <p:blipFill>
          <a:blip r:embed="rId2"/>
          <a:stretch/>
        </p:blipFill>
        <p:spPr>
          <a:xfrm>
            <a:off x="7042320" y="119160"/>
            <a:ext cx="199368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1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Štruktúra rozpočt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20320"/>
            <a:ext cx="8229600" cy="533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Calibri"/>
              </a:rPr>
              <a:t>Priame nákla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1. Osobné náklady na odborný a expertný personá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2. Cestovné náhrady a stravné odborného a expertného personálu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3. Ostatné služby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4. Majetok a infraštruktúr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5. Osobné náklady na riadenie projektu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6. Cestovné náhrady a stravné na riadenie projektu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Calibri"/>
              </a:rPr>
              <a:t>Nepriame nákla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7. Režijné náklady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Obrázok 3" descr=""/>
          <p:cNvPicPr/>
          <p:nvPr/>
        </p:nvPicPr>
        <p:blipFill>
          <a:blip r:embed="rId1"/>
          <a:stretch/>
        </p:blipFill>
        <p:spPr>
          <a:xfrm>
            <a:off x="457200" y="331920"/>
            <a:ext cx="2871720" cy="792000"/>
          </a:xfrm>
          <a:prstGeom prst="rect">
            <a:avLst/>
          </a:prstGeom>
          <a:ln w="0">
            <a:noFill/>
          </a:ln>
        </p:spPr>
      </p:pic>
      <p:pic>
        <p:nvPicPr>
          <p:cNvPr id="58" name="Obrázok 4" descr=""/>
          <p:cNvPicPr/>
          <p:nvPr/>
        </p:nvPicPr>
        <p:blipFill>
          <a:blip r:embed="rId2"/>
          <a:stretch/>
        </p:blipFill>
        <p:spPr>
          <a:xfrm>
            <a:off x="6804000" y="169920"/>
            <a:ext cx="199404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79520" y="691920"/>
            <a:ext cx="8229600" cy="113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Všeobecné zásady oprávnenosti výdavko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881000"/>
            <a:ext cx="8229600" cy="42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Náklady nevyhnutné na realizáciu projek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Primerané a odôvodnené, s dôrazom na efektívnosť, hospodárnosť, účelnosť a účinnos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Náklady ktoré vznikli a boli uhradené počas doby projektu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Preukázateľne vynaložené prijímateľo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Obrázok 3" descr=""/>
          <p:cNvPicPr/>
          <p:nvPr/>
        </p:nvPicPr>
        <p:blipFill>
          <a:blip r:embed="rId1"/>
          <a:stretch/>
        </p:blipFill>
        <p:spPr>
          <a:xfrm>
            <a:off x="324000" y="152280"/>
            <a:ext cx="2871720" cy="792360"/>
          </a:xfrm>
          <a:prstGeom prst="rect">
            <a:avLst/>
          </a:prstGeom>
          <a:ln w="0">
            <a:noFill/>
          </a:ln>
        </p:spPr>
      </p:pic>
      <p:pic>
        <p:nvPicPr>
          <p:cNvPr id="62" name="Obrázok 4" descr=""/>
          <p:cNvPicPr/>
          <p:nvPr/>
        </p:nvPicPr>
        <p:blipFill>
          <a:blip r:embed="rId2"/>
          <a:stretch/>
        </p:blipFill>
        <p:spPr>
          <a:xfrm>
            <a:off x="7020000" y="44280"/>
            <a:ext cx="1993680" cy="9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Limity na úrovni projekt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Inicializačné náklady - </a:t>
            </a:r>
            <a:r>
              <a:rPr b="1" lang="sk-SK" sz="3200" spc="-1" strike="noStrike">
                <a:solidFill>
                  <a:srgbClr val="000000"/>
                </a:solidFill>
                <a:latin typeface="Calibri"/>
              </a:rPr>
              <a:t>maximálne 2%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 z celkových oprávnených nákladov projektu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Nepriame náklady projektu v rámci režijných nákladov sú </a:t>
            </a:r>
            <a:r>
              <a:rPr b="1" lang="sk-SK" sz="3200" spc="-1" strike="noStrike">
                <a:solidFill>
                  <a:srgbClr val="000000"/>
                </a:solidFill>
                <a:latin typeface="Calibri"/>
              </a:rPr>
              <a:t>7,00%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 z celkových </a:t>
            </a:r>
            <a:r>
              <a:rPr b="1" lang="sk-SK" sz="3200" spc="-1" strike="noStrike">
                <a:solidFill>
                  <a:srgbClr val="000000"/>
                </a:solidFill>
                <a:latin typeface="Calibri"/>
              </a:rPr>
              <a:t>oprávnených nákladov 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projek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Riadenie projektu v rámci priamych nákladov projektu je </a:t>
            </a:r>
            <a:r>
              <a:rPr b="1" lang="sk-SK" sz="3200" spc="-1" strike="noStrike">
                <a:solidFill>
                  <a:srgbClr val="000000"/>
                </a:solidFill>
                <a:latin typeface="Calibri"/>
              </a:rPr>
              <a:t>20,00% 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z celkových </a:t>
            </a:r>
            <a:r>
              <a:rPr b="1" lang="sk-SK" sz="3200" spc="-1" strike="noStrike">
                <a:solidFill>
                  <a:srgbClr val="000000"/>
                </a:solidFill>
                <a:latin typeface="Calibri"/>
              </a:rPr>
              <a:t>oprávnených nákladov 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projek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Technické vybavenie na </a:t>
            </a:r>
            <a:r>
              <a:rPr b="1" lang="sk-SK" sz="3200" spc="-1" strike="noStrike">
                <a:solidFill>
                  <a:srgbClr val="000000"/>
                </a:solidFill>
                <a:latin typeface="Calibri"/>
              </a:rPr>
              <a:t>bežné použi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Obrázok 3" descr=""/>
          <p:cNvPicPr/>
          <p:nvPr/>
        </p:nvPicPr>
        <p:blipFill>
          <a:blip r:embed="rId1"/>
          <a:stretch/>
        </p:blipFill>
        <p:spPr>
          <a:xfrm>
            <a:off x="324000" y="270000"/>
            <a:ext cx="2303280" cy="755640"/>
          </a:xfrm>
          <a:prstGeom prst="rect">
            <a:avLst/>
          </a:prstGeom>
          <a:ln w="0">
            <a:noFill/>
          </a:ln>
        </p:spPr>
      </p:pic>
      <p:pic>
        <p:nvPicPr>
          <p:cNvPr id="66" name="Obrázok 4" descr=""/>
          <p:cNvPicPr/>
          <p:nvPr/>
        </p:nvPicPr>
        <p:blipFill>
          <a:blip r:embed="rId2"/>
          <a:stretch/>
        </p:blipFill>
        <p:spPr>
          <a:xfrm>
            <a:off x="6948360" y="27000"/>
            <a:ext cx="19940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7000"/>
            <a:ext cx="8229600" cy="97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Presuny prostriedkov v rozpočt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388880"/>
            <a:ext cx="8229600" cy="49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Calibri"/>
              </a:rPr>
              <a:t>Skupina nákladov </a:t>
            </a: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je napr. 1.1.1 Osobné náklady na odborný personá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Calibri"/>
              </a:rPr>
              <a:t>Položka</a:t>
            </a: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 v rozpočte je napr. 1.1.1.01 Odborník juni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Presun na úrovni </a:t>
            </a:r>
            <a:r>
              <a:rPr b="1" lang="sk-SK" sz="2800" spc="-1" strike="noStrike">
                <a:solidFill>
                  <a:srgbClr val="000000"/>
                </a:solidFill>
                <a:latin typeface="Calibri"/>
              </a:rPr>
              <a:t>položiek</a:t>
            </a: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, ale v </a:t>
            </a:r>
            <a:r>
              <a:rPr b="1" lang="sk-SK" sz="2800" spc="-1" strike="noStrike">
                <a:solidFill>
                  <a:srgbClr val="000000"/>
                </a:solidFill>
                <a:latin typeface="Calibri"/>
              </a:rPr>
              <a:t>rámci jednej skupiny nákladov</a:t>
            </a: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 v rozpočte </a:t>
            </a:r>
            <a:r>
              <a:rPr b="1" lang="sk-SK" sz="2800" spc="-1" strike="noStrike">
                <a:solidFill>
                  <a:srgbClr val="000000"/>
                </a:solidFill>
                <a:latin typeface="Calibri"/>
              </a:rPr>
              <a:t>nepresahujúce 10% </a:t>
            </a: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je prijímateľ povinný oznámiť SAMRS emailo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Pri presunoch </a:t>
            </a:r>
            <a:r>
              <a:rPr b="1" lang="sk-SK" sz="2800" spc="-1" strike="noStrike">
                <a:solidFill>
                  <a:srgbClr val="000000"/>
                </a:solidFill>
                <a:latin typeface="Calibri"/>
              </a:rPr>
              <a:t>presahujúcich 10%, </a:t>
            </a: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resp. </a:t>
            </a:r>
            <a:r>
              <a:rPr b="1" lang="sk-SK" sz="2800" spc="-1" strike="noStrike">
                <a:solidFill>
                  <a:srgbClr val="000000"/>
                </a:solidFill>
                <a:latin typeface="Calibri"/>
              </a:rPr>
              <a:t>presun medzi skupinami nákladov </a:t>
            </a: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je prijímateľ povinný požiadať SAMRS o schválenie písomne, a to ešte </a:t>
            </a:r>
            <a:r>
              <a:rPr b="1" lang="sk-SK" sz="2800" spc="-1" strike="noStrike">
                <a:solidFill>
                  <a:srgbClr val="000000"/>
                </a:solidFill>
                <a:latin typeface="Calibri"/>
              </a:rPr>
              <a:t>pred vykonaním zmeny</a:t>
            </a: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Obrázok 3" descr=""/>
          <p:cNvPicPr/>
          <p:nvPr/>
        </p:nvPicPr>
        <p:blipFill>
          <a:blip r:embed="rId1"/>
          <a:stretch/>
        </p:blipFill>
        <p:spPr>
          <a:xfrm>
            <a:off x="179280" y="297000"/>
            <a:ext cx="2479680" cy="684000"/>
          </a:xfrm>
          <a:prstGeom prst="rect">
            <a:avLst/>
          </a:prstGeom>
          <a:ln w="0">
            <a:noFill/>
          </a:ln>
        </p:spPr>
      </p:pic>
      <p:pic>
        <p:nvPicPr>
          <p:cNvPr id="70" name="Obrázok 4" descr=""/>
          <p:cNvPicPr/>
          <p:nvPr/>
        </p:nvPicPr>
        <p:blipFill>
          <a:blip r:embed="rId2"/>
          <a:stretch/>
        </p:blipFill>
        <p:spPr>
          <a:xfrm>
            <a:off x="7020000" y="61920"/>
            <a:ext cx="1954080" cy="93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855720"/>
            <a:ext cx="8229600" cy="41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Príklad oznámenia o prečerpaní položiek do 10% v rámci skupiny nákladov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68360" y="1628640"/>
          <a:ext cx="8218440" cy="4537080"/>
        </p:xfrm>
        <a:graphic>
          <a:graphicData uri="http://schemas.openxmlformats.org/drawingml/2006/table">
            <a:tbl>
              <a:tblPr/>
              <a:tblGrid>
                <a:gridCol w="2087640"/>
                <a:gridCol w="1439640"/>
                <a:gridCol w="1657440"/>
                <a:gridCol w="1387440"/>
                <a:gridCol w="1646280"/>
              </a:tblGrid>
              <a:tr h="960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Číslo a názov rozpočtovej položk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chválený rozpo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avrhovaná zmena v 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mena v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Čerpanie rozpočtovej položk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8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3 Ostatné služb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 5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 5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0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3.01 právnické služb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0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45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45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44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3.02 cateringové služb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5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1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6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3.03 prenájom priestor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0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25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8,3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25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44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3.04 prenájom techni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5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8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3,3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8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3.05 tlač kníh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5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1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,2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4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0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3.06 bezpečnostná s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1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1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8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l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 5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 5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73" name="Obrázok 4" descr=""/>
          <p:cNvPicPr/>
          <p:nvPr/>
        </p:nvPicPr>
        <p:blipFill>
          <a:blip r:embed="rId1"/>
          <a:stretch/>
        </p:blipFill>
        <p:spPr>
          <a:xfrm>
            <a:off x="250920" y="220680"/>
            <a:ext cx="2305080" cy="635040"/>
          </a:xfrm>
          <a:prstGeom prst="rect">
            <a:avLst/>
          </a:prstGeom>
          <a:ln w="0">
            <a:noFill/>
          </a:ln>
        </p:spPr>
      </p:pic>
      <p:pic>
        <p:nvPicPr>
          <p:cNvPr id="74" name="Obrázok 5" descr=""/>
          <p:cNvPicPr/>
          <p:nvPr/>
        </p:nvPicPr>
        <p:blipFill>
          <a:blip r:embed="rId2"/>
          <a:stretch/>
        </p:blipFill>
        <p:spPr>
          <a:xfrm>
            <a:off x="7380360" y="63360"/>
            <a:ext cx="1763640" cy="8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280" y="692280"/>
            <a:ext cx="79311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Calibri"/>
              </a:rPr>
              <a:t>Príklad žiadosti o presun medzi skupinami položie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57200" y="1600200"/>
          <a:ext cx="8229600" cy="4322880"/>
        </p:xfrm>
        <a:graphic>
          <a:graphicData uri="http://schemas.openxmlformats.org/drawingml/2006/table">
            <a:tbl>
              <a:tblPr/>
              <a:tblGrid>
                <a:gridCol w="1954080"/>
                <a:gridCol w="1584360"/>
                <a:gridCol w="1656000"/>
                <a:gridCol w="1388880"/>
                <a:gridCol w="1646280"/>
              </a:tblGrid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Číslo a názov rozpočtovej položk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chválený rozpo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avrhovaná zmena v 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mena v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avrhovaný rozpo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1.Osobné náklady na odborný personá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 0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5 0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26,3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 0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1.01  Senior Expert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0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2 0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28,5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0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1.02 Senior Expert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0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2 0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28,5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0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1.03 Junior Expe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0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1 0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2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0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4. Majetok a infraštruktúr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 5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5 0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30,3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5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4.01 Šijacie stroj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5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2 0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30,7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5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4.02 nábytok do dieln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0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3 0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3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0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l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 5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 5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77" name="Obrázok 4" descr=""/>
          <p:cNvPicPr/>
          <p:nvPr/>
        </p:nvPicPr>
        <p:blipFill>
          <a:blip r:embed="rId1"/>
          <a:stretch/>
        </p:blipFill>
        <p:spPr>
          <a:xfrm>
            <a:off x="179280" y="365040"/>
            <a:ext cx="2305080" cy="635040"/>
          </a:xfrm>
          <a:prstGeom prst="rect">
            <a:avLst/>
          </a:prstGeom>
          <a:ln w="0">
            <a:noFill/>
          </a:ln>
        </p:spPr>
      </p:pic>
      <p:pic>
        <p:nvPicPr>
          <p:cNvPr id="78" name="Obrázok 5" descr=""/>
          <p:cNvPicPr/>
          <p:nvPr/>
        </p:nvPicPr>
        <p:blipFill>
          <a:blip r:embed="rId2"/>
          <a:stretch/>
        </p:blipFill>
        <p:spPr>
          <a:xfrm>
            <a:off x="7164360" y="217440"/>
            <a:ext cx="17049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Zmeny v personáli projekt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42680"/>
            <a:ext cx="8229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Zmeny v personáli projektu (riadiacom, odbornom, expertnom a terénnom) </a:t>
            </a:r>
            <a:r>
              <a:rPr b="1" lang="sk-SK" sz="2800" spc="-1" strike="noStrike">
                <a:solidFill>
                  <a:srgbClr val="000000"/>
                </a:solidFill>
                <a:latin typeface="Calibri"/>
              </a:rPr>
              <a:t>podliehajú schváleniu </a:t>
            </a: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zo strany SAMR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Prijímateľ je </a:t>
            </a:r>
            <a:r>
              <a:rPr b="1" lang="sk-SK" sz="2800" spc="-1" strike="noStrike">
                <a:solidFill>
                  <a:srgbClr val="000000"/>
                </a:solidFill>
                <a:latin typeface="Calibri"/>
              </a:rPr>
              <a:t>pred</a:t>
            </a: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 vykonaním zmeny povinný predložiť písomnú žiadosť o zmenu v personáli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SAMRS posudzuje kvalifikačné predpoklady navrhovanej osob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Zmeny v ostatnom personáli stačí oznámiť </a:t>
            </a:r>
            <a:r>
              <a:rPr b="1" lang="sk-SK" sz="2800" spc="-1" strike="noStrike">
                <a:solidFill>
                  <a:srgbClr val="000000"/>
                </a:solidFill>
                <a:latin typeface="Calibri"/>
              </a:rPr>
              <a:t>emailom</a:t>
            </a: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 príslušnému projektovému manažérov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Obrázok 3" descr=""/>
          <p:cNvPicPr/>
          <p:nvPr/>
        </p:nvPicPr>
        <p:blipFill>
          <a:blip r:embed="rId1"/>
          <a:stretch/>
        </p:blipFill>
        <p:spPr>
          <a:xfrm>
            <a:off x="250920" y="230040"/>
            <a:ext cx="2871720" cy="792360"/>
          </a:xfrm>
          <a:prstGeom prst="rect">
            <a:avLst/>
          </a:prstGeom>
          <a:ln w="0">
            <a:noFill/>
          </a:ln>
        </p:spPr>
      </p:pic>
      <p:pic>
        <p:nvPicPr>
          <p:cNvPr id="82" name="Obrázok 4" descr=""/>
          <p:cNvPicPr/>
          <p:nvPr/>
        </p:nvPicPr>
        <p:blipFill>
          <a:blip r:embed="rId2"/>
          <a:stretch/>
        </p:blipFill>
        <p:spPr>
          <a:xfrm>
            <a:off x="7149960" y="1440"/>
            <a:ext cx="1994040" cy="9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7T08:31:40Z</dcterms:created>
  <dc:creator>evak</dc:creator>
  <dc:description/>
  <dc:language>en-US</dc:language>
  <cp:lastModifiedBy>Renáta Mezeiová</cp:lastModifiedBy>
  <cp:lastPrinted>2018-02-05T11:36:59Z</cp:lastPrinted>
  <dcterms:modified xsi:type="dcterms:W3CDTF">2018-09-11T09:50:41Z</dcterms:modified>
  <cp:revision>232</cp:revision>
  <dc:subject/>
  <dc:title>Snímka 1</dc:title>
</cp:coreProperties>
</file>