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4911-1893-481B-9D26-EB8F5214527F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Zástupný symbol čísla snímky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AF6B-FBF5-47F1-A44F-8E986585525A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Zástupný symbol čísla snímky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8C02-C079-460C-81F2-9B2117232EFE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čísla snímky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D284-ED2A-4537-8683-7E19B7181D74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9798-FC68-4DB4-AC7F-D5951B7C6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9BB0-F7ED-4104-82C7-5858554C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C690-4F12-41A1-AB78-114ABEC2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A4EA-E676-4E3E-9494-42762AE76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ED9D-2012-4E83-B668-0ADF24F6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4BDA-B6E4-4D94-AAA8-CAFA1BB7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80FD-4599-4211-A139-FD1DF9BA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1C02-33F3-4658-ADB2-077BAE54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ED9B-7CDD-47CD-9192-629DA98B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8047-3890-4B8F-81C2-7E2D4711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9FE4-75D3-4096-BCB5-5514F18F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BE06-F7AD-4FA8-A367-64DAC828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B1A7-D22F-4799-B780-3D75BD664787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400" spc="-1" strike="noStrike">
                <a:solidFill>
                  <a:srgbClr val="000000"/>
                </a:solidFill>
                <a:latin typeface="Calibri Light"/>
              </a:rPr>
              <a:t>Naše skúsenosti so získavaním a realizáciou grantov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Juraj Ben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soká škola sv. Alžb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 Light"/>
              </a:rPr>
              <a:t>Rozhodnutie uchádzať sa konkrétny grant vo vyhlásenej výzv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Kompatibilita teritoriálneho zamerania výzvy s našimi vlastnými aktivita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Kompatibilita obsahu výzvy s našimi vlastnými aktivita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 Light"/>
              </a:rPr>
              <a:t>Kompatibilné teritoriálne zameranie výzvy s našimi aktivitami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Vlastné projektové aktivity v obla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- Vlastné skúsenosti s realizáciou projektov v obla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- Prehľad v obla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- Vlastná personálna prítomnos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- Elementárna bezpečnos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- Spoľahlivý lokálny par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 Light"/>
              </a:rPr>
              <a:t>Vlastné skúsenosti a prehľad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Spôsoby zásobovania projek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Dostupnosť produktov na miestnom trh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Prehľad v lokálnych ľudských zdrojo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Dostupnosť povolení, certifikátov, licenci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Prehľad v aktuálnych potrebách komu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Ukraj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Moldavsk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Afganist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Keň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Južný Sudá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Sýria a okolité kraji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Východné partnerstvo (Bielorusko, Gruzinsko, Ukrajin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Západný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Balkán (Albánsko, Bosna a Hercegovina, Kosov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Obdĺžnik 4"/>
          <p:cNvSpPr/>
          <p:nvPr/>
        </p:nvSpPr>
        <p:spPr>
          <a:xfrm>
            <a:off x="838080" y="3300480"/>
            <a:ext cx="3426120" cy="160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 Light"/>
              </a:rPr>
              <a:t>Kompatibilita obsahu výzvy s našimi vlastnými aktivitami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Sektorové prio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Špecifické cie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Školstv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Zdravotníctv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Humanitárne ak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 Light"/>
              </a:rPr>
              <a:t>Čo budeme písať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Komunikácia lokálny partner – náš člov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Bratislava neovplyvňu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Oblasť, kde máme jednoznačný prehľ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Identifikované potreby miestnej komu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 Light"/>
              </a:rPr>
              <a:t>Skúsenosti s písaním grantu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Zaslaný návr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Ma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Rozpoč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Formulár projektového dokumen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Ostatn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0T04:26:28Z</dcterms:created>
  <dc:creator>Juraj Benca</dc:creator>
  <dc:description/>
  <dc:language>en-US</dc:language>
  <cp:lastModifiedBy>Renáta Mezeiová</cp:lastModifiedBy>
  <dcterms:modified xsi:type="dcterms:W3CDTF">2018-09-12T05:49:15Z</dcterms:modified>
  <cp:revision>22</cp:revision>
  <dc:subject/>
  <dc:title>Ako získať a realizovať grant</dc:title>
</cp:coreProperties>
</file>