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6EA9-E9A5-4F0A-9729-D0BE59368E1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Všetky prílohy zmluvy sú povinné, s výnimkou technických špecifikácií (tie sa prikladajú len ak sú relevantné s ohľadom na rozpočet) a subkontraktu – ten sa prikladá len ak je vo výzve stanovená podmienka existencie lokálneho partnera v projek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7C7-8ADE-49F4-B180-834043BC800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Ak Prijímateľ počas realizácie projektu musí vykonať určité zmeny, odporúčame ich vždy konzultovať so SAMRS. PFM Prijímateľa usmerní a vieme sa tak vyhnúť chybám, ale aj zbytočnej byrokracii. Oznamovacia povinnosť sa týka drobných zmien (podrobnosti stanovené finančnou príručkou) a Prijímateľ si ju musí splniť najneskôr v naratívnej správe pokrývajúcej dotknuté reportovacie obdobie. Oznámenie môže byť aj prostredníctvom email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V prípade závažnejších zmien – povinnosť vopred SAMRS o zmenu písomne požiadať.  Vykonanie takýchto zmeny podlieha súhlasu SAM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Akékoľvek zmeny v údajoch (sídlo, kontaktná adresa atď) je potrebné bezodkladne oznámiť SAMRS (email, v prílohe scan dokumentu – ak relevantn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FECF-76E0-4B78-8AD1-84C7F85ABFA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96D8-4A27-462C-AA53-EF993DC212C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Formuláre priebežnej / záverečnej správy obsahujú množstvo potrebných informácií a usmernení, ktoré Prijímateľa navádzajú k vyplnen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BE2E-55DD-4D15-894F-450D6CF8B9E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mluva obsahuje všetky práva a povinnosti vyplývajúce zo vzťahu medzi SAMRS ako donorom a Prijímateľom dotácie. Účinnosť nadobúda dňom nasledujúcim po zverejnení v CRZ. Jej neoddeliteľnou časťou sú Prílohy, ktoré sú pre Prijímateľa rovnako záväzné, ako samotný dokument zmluv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5E8-5FF0-48E9-817C-5D20AAD8B9F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Čl. 4 → vymedzenie celkovej doby realizácie projektu vrátane admin. ukončenia (spravidla 1 mesiac), ako aj celkovej doby realizácie projektových aktivít. Vymedzené dátumy sú záväzné, ak Prijímateľ nie je schopný dané lehoty dodržať, musí SAMRS písomne požiadať o predĺženie projektu (s odôvodnením) najneskôr 1 mesiac pred pôvodne plánovaným ukončením implementačného obdobia. Ak SAMRS žiadosť o predĺženie projektu schváli, pristúpi s Prijímateľom k podpisu Dodatku ku zmluve. Predlžovať jeden projekt je možné maximálne 2x. Pri projektoch, ktoré trvajú 24 (resp. 25) mesiacov je nutné brať do úvahy nevyhnutnosť uzavretia projektu a vyplatenia poslednej platby v predmetnom kalendárnom roku, nakoľko nie je možné preklápať finančné zdroje pochádzajúce z predošlého obdobia viac ako 2x. (Príklad – Dotácia schválená v roku 2018, teda zo zdrojov alokovaných na daný rok 2018, môže byť čerpaná iba v rokoch 2018, 2019 a 2020. Vyplatenie platby v roku 2021 zo zdroja z roka 2018 teda nie je možné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094B-7774-44BD-A27F-A837B1EB259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Čl. 5 → maximálna výška dotácie a spolufinancovania. V prípade neoprávnených nákladov je možné zo strany SAMRS znížiť celkovú výšku dotácie. Ak Prijímateľ nedodrží zmluvné spolufinancovanie, SAMRS zníži celkovú výšku dotácie o nedodržanú výšku spolufinancovania. Nepodnikatelia: preddavkové platby, iba záverečná je refundačná. Podnikatelia: všetky platby majú charakter refundác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o zákona vyplýva, že spolufinancovanie pre nepodnikateľské subjekty je min. 10% z dotácie ODA, pre podnikateľské je hranica min.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0C14-0F89-45B0-89A0-E5E5FD941CB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Čl.6 → rozdelenie jednotlivých splátok dotácie. Je to na dohode medzi Prijímateľom a SAMRS. Prijímateľ navrhne rozloženie platieb tak, aby zabezpečil kontinuálnu a hladkú implementáciu projektu s ohľadom na plánované aktivity. Obmedzenie – záverečná splátka musí byť vo výške min. 10% z dotácie OD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SAMRS vypláca prvú platbu do 10 dní odo dňa preloženia žiadosti (najskôr 10 dní pred začiatkom realizácie projektu). Zvyšné platby SAMRS vyplatí až po schválení vyúčtovania predošlej splátk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A1DF-B909-4CA8-B5C4-698ABB9DD36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Čl. 7 → reporting PS raz za 6 mesiacov, finančné vyúčtovanie raz za 12 mesiacov - avšak je tu priestor na dohodu s ohľadom na realizáciu projektových aktivít. Príklad: projekt na 24 mesiacov začína 15.11. 2018, tzn. v roku 2018 bude prebiehať iba 1,5 mesiaca. Je možné toto obdobie 1,5 mesiaca zlúčiť s nasledujúcim, čiže prvá naratívna správa bude za obdobie 7,5 mesiacov a prvé finančné vyúčtovanie bude za obdobie 13,5 mesia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osun predloženia reportov → nutné uviesť dôvod, SAMRS zváži a obratom sa vyjadr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Príklad odôvodneného posunu: lokálny partner nestihol doložiť dokumenty potrebné k uzavretiu finančného vyúčtovania (nie vlastnou vinou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173F-ED32-40DE-B201-E9E88806610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Za naratívny reporting zodpovedá projektový manažér. Elektronickú verziu nahrá do GM systému a tiež ju doručí svojmu PFM (na usb / mailom / cez wetransfer etc.) Vytlačenú správu podpísanú štatutárom doručí na SAMRS. Odporúčame všetky prílohy správy predkladať elektronick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SAMRS má na finančnú kontrolu 30 dní. Príslušný PFM po uzavretí kontroly vyhotoví Tabuľku oprávnených nákladov → tá obsahuje informácie o skutočnom oprávnenom čerpaní a na jej základe môže Prijímateľ požiadať o ďalšiu splátku. Tú SAMRS vyplatí do 10 dní od doručenia žiados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ástupný objekt pre číslo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572A-5CA1-4447-9AC8-8D0C8F03B39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815-0AF3-449D-918E-91086EC7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1CF-0F77-48EA-81F9-F21F4BD6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F79-D7AB-45C3-973C-C6972BD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5C0-0ABB-47E6-B836-70BD3780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D3C-6FE6-40E3-89C7-8E2A132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BF0-C4AE-42C4-87EC-0FB72BE6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B59-C14B-4683-A42D-D43A3B0D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198-2862-4FB8-9D59-5EE16086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20D-7928-4D39-8774-39193E2F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EC3-D5CE-47B7-9DBD-D144F338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6E5-6587-4C16-947C-05825847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085-29E4-4E94-804F-7427D1A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D211-9F9D-4804-B913-707C774A462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Manažment projektu a základné zmluvné dokumen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ílohy zmlu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Žiadosť o poskytnutie dotá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Vrátane matice logického rámca, personálnej matice a technických špecifikáci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Finančná príruč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Subkontra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Žiadosť o poskytnutie dotá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Obsahuje kompletný naratívny popis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Jej prílohou je matica logického rámca, personálna matica a technické špecifikácie (ak relevantn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Obsahuje aj časový harmonogram realizácie jednotlivých projektových aktiví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Rozpočet a finančná príruč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Detailne popisuje financovanie projektu po jednotlivých položk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iame a nepriame nákl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Nepriame náklady → max. 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FP obsahuje usmernenia k financovaniu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Subkontr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Upravuje zmluvný vzťah medzi Prijímateľom dotácie a lokálnym projektovým partne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Nakoľko SAMRS neuzatvára priamy zmluvný vzťah s lokálnym partnerom, za jeho zapojenie v projekte a všetky záväzky vyplývajúce zo subkontraktu nesie plnú zodpovednosť Prijímateľ dotá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Originál je neoddeliteľnou súčasťou zmlu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Zmeny v projek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porúča sa konzultácia s príslušným PF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závislosti od miery závažnosti → Prijímateľ môže zmeny buď oznámiť, alebo o ne vopred požiadať (viď. FP – finančná príruč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ozpočtové zmeny → oznámenie/žiadosť (F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rsonálne zmeny → oznámenie/žiadosť (F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meny v realizácii aktivít / zmena lokality – písomná žiad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meny v údajoch o Prijímateľovi / lokálnom partnerovi → bezodkladne oznámiť SAM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ok 1" descr="Aid logo.png"/>
          <p:cNvPicPr/>
          <p:nvPr/>
        </p:nvPicPr>
        <p:blipFill>
          <a:blip r:embed="rId1"/>
          <a:stretch/>
        </p:blipFill>
        <p:spPr>
          <a:xfrm>
            <a:off x="6580080" y="0"/>
            <a:ext cx="25639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Obdĺžnik 4"/>
          <p:cNvSpPr/>
          <p:nvPr/>
        </p:nvSpPr>
        <p:spPr>
          <a:xfrm>
            <a:off x="411120" y="3917880"/>
            <a:ext cx="87487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Nina Macháč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nina.machacova@slovakaid.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Slovenská agentúra pre medzinárodn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rozvojovú spoluprácu (SAM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Pražská 7, </a:t>
            </a:r>
            <a:r>
              <a:rPr b="1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811 0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4</a:t>
            </a:r>
            <a:r>
              <a:rPr b="1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 Bratislava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,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	</a:t>
            </a:r>
            <a:r>
              <a:rPr b="1" lang="sk-SK" sz="2400" spc="-1" strike="noStrike">
                <a:solidFill>
                  <a:srgbClr val="558ed5"/>
                </a:solidFill>
                <a:latin typeface="Calibri"/>
                <a:ea typeface="Arial"/>
              </a:rPr>
              <a:t>www.slovakaid.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1" lang="sk-SK" sz="20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95280" y="2700360"/>
            <a:ext cx="61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17375e"/>
                </a:solidFill>
                <a:latin typeface="Calibri"/>
                <a:ea typeface="Arial"/>
              </a:rPr>
              <a:t>Ďakujem</a:t>
            </a:r>
            <a:r>
              <a:rPr b="1" lang="sk-SK" sz="3600" spc="-1" strike="noStrike">
                <a:solidFill>
                  <a:srgbClr val="000066"/>
                </a:solidFill>
                <a:latin typeface="Calibri"/>
                <a:ea typeface="Arial"/>
              </a:rPr>
              <a:t> </a:t>
            </a:r>
            <a:r>
              <a:rPr b="1" lang="sk-SK" sz="3600" spc="-1" strike="noStrike">
                <a:solidFill>
                  <a:srgbClr val="17375e"/>
                </a:solidFill>
                <a:latin typeface="Calibri"/>
                <a:ea typeface="Arial"/>
              </a:rPr>
              <a:t>za</a:t>
            </a:r>
            <a:r>
              <a:rPr b="1" lang="sk-SK" sz="3600" spc="-1" strike="noStrike">
                <a:solidFill>
                  <a:srgbClr val="000066"/>
                </a:solidFill>
                <a:latin typeface="Calibri"/>
                <a:ea typeface="Arial"/>
              </a:rPr>
              <a:t> </a:t>
            </a:r>
            <a:r>
              <a:rPr b="1" lang="sk-SK" sz="3600" spc="-1" strike="noStrike">
                <a:solidFill>
                  <a:srgbClr val="17375e"/>
                </a:solidFill>
                <a:latin typeface="Calibri"/>
                <a:ea typeface="Arial"/>
              </a:rPr>
              <a:t>pozorn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4356000" y="73080"/>
            <a:ext cx="2374920" cy="112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158760" y="111240"/>
            <a:ext cx="2871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Kde hľadať užitočné informá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Zmluva a prílohy zmlu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Realizácia projektu, podávanie sprá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Úloha Prijímateľa dotácie a projektového partn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Zmeny v projek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Užitočné informá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Základ: Zmluva, finančná príručka, formulá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Konzultácie s P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Zmluva a prílohy zmlu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mluva = základný dokument medzi SAMRS a Prijímateľom dotácie → práva a povinnosti zmluvných str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plicitné určen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oby trvan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harmonogramu naratívnych a finančných report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aximálnej výšky dotá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olufinanco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ozdelenia splátok dotá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y: Žiadosť o poskytnutie dotácie, rozpočet, finančná príručka, subkontr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Doba realizácie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Celková doba realizácie projektu: implementácia projektu + administratívne ukonče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Doba realizácie projektu: realizácia oprávnených aktiví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Výška schválenej dotácie a spolufinancov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rčuje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maximálnu výšku dotáci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a realizáciu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eoprávnené náklady → zníženie celkovej dotá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olufinancovanie – záväz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inancova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epodnikateľské subjekty: preddavkové + posledná splátka refundá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nikateľské subjekty: refundač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Spôsob poskytnutia plati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Dohoda medzi SAMRS a Prijímateľ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Nepodnikateľské subjekty → Zálohové platby (s výnimkou poslednej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odnikatelia → všetky splátky sú refundač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vá splátka – po podpise zmlu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Ďalšie splátky: podmienka korektného vyúčtovania predošlej splátky a zároveň jej vyčerpanie na min. 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Naratívny a finančný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rmonogram → zväčša podľa kalendárnych rok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iebežné správy min. raz za pol ro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Finančné správy – zvyčajne raz roč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O posun predloženia naratívnej správy, či finančného vyúčtovania, musí Prijímateľ požiadať SAM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ostup pri predkladaní sprá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Naratívne správy: na oficiálnych formuláro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Samotný report: elektronická verzia + podpísaná vytlačená správa → doručiť P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ílohy: preferujeme elektron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Finančné vyúčtovanie v predpísanom termíne Prijímateľ doručí na SAMRS, kde prebehne kontrola a audit → je podmienkou k uvoľneniu ďalších platieb z dotá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08:31:40Z</dcterms:created>
  <dc:creator>evak</dc:creator>
  <dc:description/>
  <dc:language>en-US</dc:language>
  <cp:lastModifiedBy>Renáta Mezeiová</cp:lastModifiedBy>
  <cp:lastPrinted>2018-02-05T11:36:59Z</cp:lastPrinted>
  <dcterms:modified xsi:type="dcterms:W3CDTF">2018-09-11T06:23:22Z</dcterms:modified>
  <cp:revision>173</cp:revision>
  <dc:subject/>
  <dc:title>Snímka 1</dc:title>
</cp:coreProperties>
</file>